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9.jpeg" ContentType="image/jpeg"/>
  <Override PartName="/ppt/media/image14.jpeg" ContentType="image/jpeg"/>
  <Override PartName="/ppt/media/image8.png" ContentType="image/png"/>
  <Override PartName="/ppt/media/image7.png" ContentType="image/png"/>
  <Override PartName="/ppt/media/image6.jpeg" ContentType="image/jpeg"/>
  <Override PartName="/ppt/media/image10.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7D0EE-94AA-4704-9D11-A23E78037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72D2F-CC02-4EF4-B2CF-267A7B671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8D9BB-6FFA-4666-B323-DAC294948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02F91-6CC4-4473-B57F-12C5361F3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2F01B-7C28-4110-BBAC-25F136724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70AFB-4CA8-4BC3-B5C8-58FDC8FD5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37AC2-5772-4A1B-9409-9DE447206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95023-59EB-45FF-8DDC-76807D74A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516D0-FB13-43D1-B0AF-EBFF8F205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454BB-C04D-4A2E-B54C-F735D3D94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054F0-4802-45D5-8111-57AC303D9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61132-03D5-4779-ACAE-EA67C3927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F860-5A72-441B-9FC0-105C2D4AF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urface Renderin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ies Bene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Pharr &amp; Hanrahan’s Technique</a:t>
            </a:r>
            <a:endParaRPr b="0" lang="en-US" sz="3200" spc="-1" strike="noStrike">
              <a:solidFill>
                <a:srgbClr val="000000"/>
              </a:solidFill>
              <a:latin typeface="Times New Roman"/>
            </a:endParaRPr>
          </a:p>
        </p:txBody>
      </p:sp>
      <p:pic>
        <p:nvPicPr>
          <p:cNvPr id="63" name="" descr=""/>
          <p:cNvPicPr/>
          <p:nvPr/>
        </p:nvPicPr>
        <p:blipFill>
          <a:blip r:embed="rId1"/>
          <a:stretch/>
        </p:blipFill>
        <p:spPr>
          <a:xfrm>
            <a:off x="685800" y="1981080"/>
            <a:ext cx="4114800" cy="3438720"/>
          </a:xfrm>
          <a:prstGeom prst="rect">
            <a:avLst/>
          </a:prstGeom>
          <a:ln w="0">
            <a:noFill/>
          </a:ln>
        </p:spPr>
      </p:pic>
      <p:pic>
        <p:nvPicPr>
          <p:cNvPr id="64" name="" descr=""/>
          <p:cNvPicPr/>
          <p:nvPr/>
        </p:nvPicPr>
        <p:blipFill>
          <a:blip r:embed="rId2"/>
          <a:stretch/>
        </p:blipFill>
        <p:spPr>
          <a:xfrm>
            <a:off x="4876920" y="1981080"/>
            <a:ext cx="347976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g simplifying assumption in this paper: “Each scattering event blurs the light distribution, as a result the light distribution tends toward uniformity as the number of scattering events increases.” Observation makes good intuitive sense as the process is stacking stochastic events on top of one another.</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me up on this one Mr. Wizard!</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y make this observation, Jensen et al. decide to only bother accurately modeling the first-order subsurface scattering. All other scattering will be approximated in one equation.</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idea that is captured in the equation:                      </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 S</a:t>
            </a:r>
            <a:r>
              <a:rPr b="0" lang="en-US" sz="2400" spc="-1" strike="noStrike" baseline="-25000">
                <a:solidFill>
                  <a:srgbClr val="000000"/>
                </a:solidFill>
                <a:latin typeface="Times New Roman"/>
              </a:rPr>
              <a:t>d</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h Oh, Here comes the math</a:t>
            </a:r>
            <a:endParaRPr b="0" lang="en-US" sz="4400" spc="-1" strike="noStrike">
              <a:solidFill>
                <a:srgbClr val="000000"/>
              </a:solidFill>
              <a:latin typeface="Times New Roman"/>
            </a:endParaRPr>
          </a:p>
        </p:txBody>
      </p:sp>
      <p:sp>
        <p:nvSpPr>
          <p:cNvPr id="68" name="PlaceHolder 2"/>
          <p:cNvSpPr>
            <a:spLocks noGrp="1"/>
          </p:cNvSpPr>
          <p:nvPr>
            <p:ph/>
          </p:nvPr>
        </p:nvSpPr>
        <p:spPr>
          <a:xfrm>
            <a:off x="762120" y="1294920"/>
            <a:ext cx="769608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might have found the math transparent. If you did, shut up since I now hate you. You might also want to consider sleeping through this par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you need hints on how to fall asleep in class, you might want to ask 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me terminology refresh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diant flux (or just flux) is the time rate of flow of radiant energ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diant flux can be broken apart into the flux leaving the surface, radiant exitance, and the flux arriving at a surface location, irradi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erm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ance, L, is the radiant flux per solid angle per unit projected are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radiance" descr=""/>
          <p:cNvPicPr/>
          <p:nvPr/>
        </p:nvPicPr>
        <p:blipFill>
          <a:blip r:embed="rId1"/>
          <a:stretch/>
        </p:blipFill>
        <p:spPr>
          <a:xfrm>
            <a:off x="2209680" y="2438280"/>
            <a:ext cx="5029200" cy="397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erm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a</a:t>
            </a:r>
            <a:r>
              <a:rPr b="0" lang="en-US" sz="3200" spc="-1" strike="noStrike">
                <a:solidFill>
                  <a:srgbClr val="000000"/>
                </a:solidFill>
                <a:latin typeface="Times New Roman"/>
              </a:rPr>
              <a:t> is the absorption coefficien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s</a:t>
            </a:r>
            <a:r>
              <a:rPr b="0" lang="en-US" sz="3200" spc="-1" strike="noStrike">
                <a:solidFill>
                  <a:srgbClr val="000000"/>
                </a:solidFill>
                <a:latin typeface="Times New Roman"/>
              </a:rPr>
              <a:t> is the scattering coeffic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properties can measured at cross sections of material. This represents the total power per unit area scattered or attenuated divided by power per unit area of the incident be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erm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a</a:t>
            </a:r>
            <a:r>
              <a:rPr b="0" lang="en-US" sz="3200" spc="-1" strike="noStrike">
                <a:solidFill>
                  <a:srgbClr val="000000"/>
                </a:solidFill>
                <a:latin typeface="Times New Roman"/>
              </a:rPr>
              <a:t> is the absorption coefficien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s</a:t>
            </a:r>
            <a:r>
              <a:rPr b="0" lang="en-US" sz="3200" spc="-1" strike="noStrike">
                <a:solidFill>
                  <a:srgbClr val="000000"/>
                </a:solidFill>
                <a:latin typeface="Times New Roman"/>
              </a:rPr>
              <a:t> is the scattering coeffic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properties can measured at cross sections of material. This represents the total power per unit area scattered or attenuated divided by power per unit area of the incident be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erm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hematically, these cross sections can be interpreted as probability per unit length of interaction. This is equivalent to the mean free path equals the total scattering cross se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usion Approximatio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ffusion approximation is based on the idea of dipoles. To simulate all the later-order subsurface scattering, they create a volumetric point source of light in the surface beneath where the incoming ray hits. This light interacts with a negative light source positioned outside the material at a further distance. The two dipoles’ fields interact at the surface of the ob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304920"/>
            <a:ext cx="7772400" cy="6248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 did they do this? Well, the diffuse BSSRDF equals the radiant exitance divided by the incident flu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d</a:t>
            </a:r>
            <a:r>
              <a:rPr b="0" lang="en-US" sz="2400" spc="-1" strike="noStrike">
                <a:solidFill>
                  <a:srgbClr val="000000"/>
                </a:solidFill>
                <a:latin typeface="Times New Roman"/>
              </a:rPr>
              <a:t>(r) = -D (</a:t>
            </a:r>
            <a:r>
              <a:rPr b="1" lang="en-US" sz="2400" spc="-1" strike="noStrike">
                <a:solidFill>
                  <a:srgbClr val="000000"/>
                </a:solidFill>
                <a:latin typeface="Times New Roman"/>
              </a:rPr>
              <a:t>n * </a:t>
            </a:r>
            <a:r>
              <a:rPr b="0" lang="en-US" sz="2400" spc="-1" strike="noStrike">
                <a:solidFill>
                  <a:srgbClr val="000000"/>
                </a:solidFill>
                <a:latin typeface="Wingdings 3"/>
                <a:ea typeface="Wingdings 3"/>
              </a:rPr>
              <a:t></a:t>
            </a:r>
            <a:r>
              <a:rPr b="1"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d</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roblem is that this general equation lack an explicit, analytic solution. Using the dipoles we can calculate the fluence a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x) = </a:t>
            </a:r>
            <a:r>
              <a:rPr b="0" lang="en-US" sz="2400" spc="-1" strike="noStrike">
                <a:solidFill>
                  <a:srgbClr val="000000"/>
                </a:solidFill>
                <a:latin typeface="Symbol"/>
                <a:ea typeface="Symbol"/>
              </a:rPr>
              <a:t></a:t>
            </a:r>
            <a:r>
              <a:rPr b="0" lang="en-US" sz="2400" spc="-1" strike="noStrike">
                <a:solidFill>
                  <a:srgbClr val="000000"/>
                </a:solidFill>
                <a:latin typeface="Times New Roman"/>
              </a:rPr>
              <a:t>(4* pi *D) [e</a:t>
            </a:r>
            <a:r>
              <a:rPr b="0" lang="en-US" sz="2400" spc="-1" strike="noStrike" baseline="30000">
                <a:solidFill>
                  <a:srgbClr val="000000"/>
                </a:solidFill>
                <a:latin typeface="Times New Roman"/>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rPr>
              <a:t>tr d_r</a:t>
            </a:r>
            <a:r>
              <a:rPr b="0" lang="en-US" sz="2400" spc="-1" strike="noStrike">
                <a:solidFill>
                  <a:srgbClr val="000000"/>
                </a:solidFill>
                <a:latin typeface="Times New Roman"/>
              </a:rPr>
              <a:t> /d</a:t>
            </a:r>
            <a:r>
              <a:rPr b="0" lang="en-US" sz="2400" spc="-1" strike="noStrike" baseline="-25000">
                <a:solidFill>
                  <a:srgbClr val="000000"/>
                </a:solidFill>
                <a:latin typeface="Times New Roman"/>
              </a:rPr>
              <a:t>r</a:t>
            </a:r>
            <a:r>
              <a:rPr b="0" lang="en-US" sz="2400" spc="-1" strike="noStrike">
                <a:solidFill>
                  <a:srgbClr val="000000"/>
                </a:solidFill>
                <a:latin typeface="Times New Roman"/>
              </a:rPr>
              <a:t>- e</a:t>
            </a:r>
            <a:r>
              <a:rPr b="0" lang="en-US" sz="2400" spc="-1" strike="noStrike" baseline="30000">
                <a:solidFill>
                  <a:srgbClr val="000000"/>
                </a:solidFill>
                <a:latin typeface="Times New Roman"/>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rPr>
              <a:t>tr d_v </a:t>
            </a:r>
            <a:r>
              <a:rPr b="0" lang="en-US" sz="2400" spc="-1" strike="noStrike">
                <a:solidFill>
                  <a:srgbClr val="000000"/>
                </a:solidFill>
                <a:latin typeface="Times New Roman"/>
              </a:rPr>
              <a:t>/d</a:t>
            </a:r>
            <a:r>
              <a:rPr b="0" lang="en-US" sz="2400" spc="-1" strike="noStrike" baseline="-25000">
                <a:solidFill>
                  <a:srgbClr val="000000"/>
                </a:solidFill>
                <a:latin typeface="Times New Roman"/>
              </a:rPr>
              <a:t>v</a:t>
            </a:r>
            <a:r>
              <a:rPr b="0" lang="en-US" sz="2400" spc="-1" strike="noStrike">
                <a:solidFill>
                  <a:srgbClr val="000000"/>
                </a:solidFill>
                <a:latin typeface="Times New Roman"/>
              </a:rPr>
              <a:t> ]     (a2)</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 descr=""/>
          <p:cNvPicPr/>
          <p:nvPr/>
        </p:nvPicPr>
        <p:blipFill>
          <a:blip r:embed="rId1"/>
          <a:stretch/>
        </p:blipFill>
        <p:spPr>
          <a:xfrm>
            <a:off x="1523880" y="3886200"/>
            <a:ext cx="3276720" cy="2314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304920"/>
            <a:ext cx="7772400" cy="6248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we take the equation for the fluence  (a2) and substitute into the </a:t>
            </a:r>
            <a:r>
              <a:rPr b="0" lang="en-US" sz="2400" spc="-1" strike="noStrike">
                <a:solidFill>
                  <a:srgbClr val="000000"/>
                </a:solidFill>
                <a:latin typeface="Symbol"/>
                <a:ea typeface="Symbol"/>
              </a:rPr>
              <a:t></a:t>
            </a:r>
            <a:r>
              <a:rPr b="0" lang="en-US" sz="2400" spc="-1" strike="noStrike">
                <a:solidFill>
                  <a:srgbClr val="000000"/>
                </a:solidFill>
                <a:latin typeface="Times New Roman"/>
              </a:rPr>
              <a:t>(x) function in (a1) we now need to take the directional partial derivative, and get equation 4. Multiplying equation 4, applied to the distance between the incoming and outgoing ray, by the Fresnel transmittance for the incoming and outgoing rays, we get the approximation for high-order scattering. Why the Fresnel? R</a:t>
            </a:r>
            <a:r>
              <a:rPr b="0" lang="en-US" sz="2400" spc="-1" strike="noStrike" baseline="-25000">
                <a:solidFill>
                  <a:srgbClr val="000000"/>
                </a:solidFill>
                <a:latin typeface="Times New Roman"/>
              </a:rPr>
              <a:t>d</a:t>
            </a:r>
            <a:r>
              <a:rPr b="0" lang="en-US" sz="2400" spc="-1" strike="noStrike">
                <a:solidFill>
                  <a:srgbClr val="000000"/>
                </a:solidFill>
                <a:latin typeface="Times New Roman"/>
              </a:rPr>
              <a:t> has not considered the specular ter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ral Notes</a:t>
            </a:r>
            <a:endParaRPr b="0" lang="en-US" sz="4400" spc="-1" strike="noStrike">
              <a:solidFill>
                <a:srgbClr val="000000"/>
              </a:solidFill>
              <a:latin typeface="Times New Roman"/>
            </a:endParaRPr>
          </a:p>
        </p:txBody>
      </p:sp>
      <p:sp>
        <p:nvSpPr>
          <p:cNvPr id="44" name="PlaceHolder 2"/>
          <p:cNvSpPr>
            <a:spLocks noGrp="1"/>
          </p:cNvSpPr>
          <p:nvPr>
            <p:ph/>
          </p:nvPr>
        </p:nvSpPr>
        <p:spPr>
          <a:xfrm>
            <a:off x="762120" y="1980720"/>
            <a:ext cx="769608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t of math here – I will discuss some of it. I will gloss over the rest. If you got a question, stop 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PowerPoint slides are really boring, as I hate PowerPo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 writing these slides without hiding the inane paperclip, just to see if I can make it through without snapp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 Scattering Term</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Scattering occurs when the incoming ray intersects the outgoing ray</a:t>
            </a:r>
            <a:endParaRPr b="0" lang="en-US" sz="3200" spc="-1" strike="noStrike">
              <a:solidFill>
                <a:srgbClr val="000000"/>
              </a:solidFill>
              <a:latin typeface="Times New Roman"/>
            </a:endParaRPr>
          </a:p>
        </p:txBody>
      </p:sp>
      <p:pic>
        <p:nvPicPr>
          <p:cNvPr id="87" name="" descr=""/>
          <p:cNvPicPr/>
          <p:nvPr/>
        </p:nvPicPr>
        <p:blipFill>
          <a:blip r:embed="rId1"/>
          <a:stretch/>
        </p:blipFill>
        <p:spPr>
          <a:xfrm>
            <a:off x="2286000" y="2743200"/>
            <a:ext cx="3657600" cy="241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ingle scattering term theoretically calculated (assuming a semi-infinite homogenous med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is implicitly calculated in the second line of equation 6. As noted, there is a change in the integrating variables, implying a delta fun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 we want to not include in the integration any outgoing vector that doesn’t intersect the incoming ve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h Thank God, That Stupid Paperclip has hidden himself. Just in time too. I hate him sooo much.</a:t>
            </a:r>
            <a:endParaRPr b="0" lang="en-US" sz="3200" spc="-1" strike="noStrike">
              <a:solidFill>
                <a:srgbClr val="000000"/>
              </a:solidFill>
              <a:latin typeface="Times New Roman"/>
            </a:endParaRPr>
          </a:p>
        </p:txBody>
      </p:sp>
      <p:pic>
        <p:nvPicPr>
          <p:cNvPr id="91" name="clippy" descr=""/>
          <p:cNvPicPr/>
          <p:nvPr/>
        </p:nvPicPr>
        <p:blipFill>
          <a:blip r:embed="rId1"/>
          <a:stretch/>
        </p:blipFill>
        <p:spPr>
          <a:xfrm>
            <a:off x="1981080" y="1981080"/>
            <a:ext cx="4953240" cy="3646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k, all this theory is great, but how do we use it?</a:t>
            </a:r>
            <a:endParaRPr b="0" lang="en-US" sz="2800" spc="-1" strike="noStrike">
              <a:solidFill>
                <a:srgbClr val="000000"/>
              </a:solidFill>
              <a:latin typeface="Times New Roman"/>
            </a:endParaRPr>
          </a:p>
        </p:txBody>
      </p:sp>
      <p:sp>
        <p:nvSpPr>
          <p:cNvPr id="9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several parameters need to be established for materials. Done by shooting a a focused beam of light into an object and recording the spread of light in the materi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have everything we need to to plug the lighting equations into  a Monte Carlo ray trac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y what? A Monte Carlo ray tracer can handle things a normal ray tracer can’t: depth of field, motion blur, indirect illum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work by sampling from the unknown function (lighting distribution) by stochastically tracing rays across all possible light paths and then averaging each rays value for a pixel to estimate the integral over the light path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seudocode</a:t>
            </a:r>
            <a:endParaRPr b="0" lang="en-US" sz="2800" spc="-1" strike="noStrike">
              <a:solidFill>
                <a:srgbClr val="000000"/>
              </a:solidFill>
              <a:latin typeface="Times New Roman"/>
            </a:endParaRPr>
          </a:p>
        </p:txBody>
      </p:sp>
      <p:sp>
        <p:nvSpPr>
          <p:cNvPr id="95" name="PlaceHolder 2"/>
          <p:cNvSpPr>
            <a:spLocks noGrp="1"/>
          </p:cNvSpPr>
          <p:nvPr>
            <p:ph/>
          </p:nvPr>
        </p:nvSpPr>
        <p:spPr>
          <a:xfrm>
            <a:off x="304920" y="762120"/>
            <a:ext cx="41148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ormal ray-tracing algorithm</a:t>
            </a:r>
            <a:endParaRPr b="0" lang="en-US" sz="20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each pixe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ick a ray from the eye through this pixe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ixel-color = trace(ray)</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ce(ray)</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d nearest intersection with scen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ute intersection point and norma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shade(point, normal)</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de(point, norma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0</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each light sourc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race shadow ray to light sourc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f shadow ray intersects light sourc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or = color + direc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llumination</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specular</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or = color + trace(reflected/refrac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ay)</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color</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 name=""/>
          <p:cNvSpPr/>
          <p:nvPr/>
        </p:nvSpPr>
        <p:spPr>
          <a:xfrm>
            <a:off x="4419720" y="838080"/>
            <a:ext cx="5029200" cy="5410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mple Monte Carlo Ray Tracer</a:t>
            </a:r>
            <a:endParaRPr b="0" lang="en-US" sz="20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each pixe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0</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each sampl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ick a ray from the eye through a  random position</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 the pixe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ick a random time and lens position for the ray</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or = color + trace(ray)</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ixel-color = color/#samples</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ce(ray)</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d nearest intersection with scen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ute intersection point and norma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shade(point, normal)</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de(point, norma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0</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each light sourc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est visibility of random position on light sourc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f visibl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or = color + direct illumination</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color + trace(a randomly reflected ray)</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color</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of Monte Carlo Ray Tracer</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montecarloapple" descr=""/>
          <p:cNvPicPr/>
          <p:nvPr/>
        </p:nvPicPr>
        <p:blipFill>
          <a:blip r:embed="rId1"/>
          <a:stretch/>
        </p:blipFill>
        <p:spPr>
          <a:xfrm>
            <a:off x="304920" y="2057400"/>
            <a:ext cx="4800600" cy="3886200"/>
          </a:xfrm>
          <a:prstGeom prst="rect">
            <a:avLst/>
          </a:prstGeom>
          <a:ln w="0">
            <a:noFill/>
          </a:ln>
        </p:spPr>
      </p:pic>
      <p:pic>
        <p:nvPicPr>
          <p:cNvPr id="100" name="montecarloroom" descr=""/>
          <p:cNvPicPr/>
          <p:nvPr/>
        </p:nvPicPr>
        <p:blipFill>
          <a:blip r:embed="rId2"/>
          <a:stretch/>
        </p:blipFill>
        <p:spPr>
          <a:xfrm>
            <a:off x="5029200" y="182880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t what about BSSRDF?</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k, so Monte Carlo looks pretty cool, but how does it work with this subsurface stuf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ly, a ray-object intersection just looks at that specific point of inters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BSSRDF-enhanced tracer, you need a random position for both the light source and area of point of inters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wo different ways of sampling the surrounding area. One for single-scattering and one for the diffuse approxim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usion Approximation</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atch around the incoming ray hit is sampled random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onte Carlo sampling insufficient paths traced lead to a noisy image. It is nice if you can do importance sampling to make sure most of the paths you are following are meaningfu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to do importance sampling for the patch since there is an exponential decrease in energy density function. Use this exponential decay in sample sele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we are living a lie here. Dipole theory holds for flat surfaces. Just a hack for curved 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ngle Scattering</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scattering samples must come from  the path followed by the outgoing ray. We just pick distances on this outgoing ray for the random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stance along this path is based a logarithmic function which means once again it is easy to do importance sampl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seudocode</a:t>
            </a:r>
            <a:endParaRPr b="0" lang="en-US" sz="2800" spc="-1" strike="noStrike">
              <a:solidFill>
                <a:srgbClr val="000000"/>
              </a:solidFill>
              <a:latin typeface="Times New Roman"/>
            </a:endParaRPr>
          </a:p>
        </p:txBody>
      </p:sp>
      <p:sp>
        <p:nvSpPr>
          <p:cNvPr id="108" name="PlaceHolder 2"/>
          <p:cNvSpPr>
            <a:spLocks noGrp="1"/>
          </p:cNvSpPr>
          <p:nvPr>
            <p:ph/>
          </p:nvPr>
        </p:nvSpPr>
        <p:spPr>
          <a:xfrm>
            <a:off x="-533520" y="914040"/>
            <a:ext cx="457200" cy="5257800"/>
          </a:xfrm>
          <a:prstGeom prst="rect">
            <a:avLst/>
          </a:prstGeom>
          <a:noFill/>
          <a:ln w="0">
            <a:noFill/>
          </a:ln>
        </p:spPr>
        <p:txBody>
          <a:bodyPr lIns="90000" rIns="90000" tIns="46800" bIns="46800" anchor="t">
            <a:normAutofit fontScale="30000"/>
          </a:bodyPr>
          <a:p>
            <a:pPr marL="102600" indent="-102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ormal ray-tracing algorithm</a:t>
            </a:r>
            <a:endParaRPr b="0" lang="en-US" sz="20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each pixel</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ick a ray from the eye through this pixel</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ixel-color = trace(ray)</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ce(ray)</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d nearest intersection with scene</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ute intersection point and normal</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shade(point, normal)</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de(point, normal)</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0</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each light source</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race shadow ray to light source</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f shadow ray intersects light source</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or = color + direc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llumination</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specular</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or = color + trace(reflected/refrac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ay)</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color</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0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 name=""/>
          <p:cNvSpPr/>
          <p:nvPr/>
        </p:nvSpPr>
        <p:spPr>
          <a:xfrm>
            <a:off x="457200" y="838080"/>
            <a:ext cx="4495680" cy="5410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Monte Carlo Ray Tracer</a:t>
            </a:r>
            <a:endParaRPr b="0" lang="en-US" sz="20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 stays the sam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ce(ray)</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d nearest intersection with scen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ute intersection point and norma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shade_single(point, norma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color + shade_diffuse(point, normal)</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de_diffuse(point, norma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0</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each light sourc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est visibility of random position on light sourc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f visibl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or = color + direct illumination</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color + trace(a randomly reflected shadow ray)</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enerate random sample distance d</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calc_diffuse_scattering(color, d, n)</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color</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10" name=""/>
          <p:cNvSpPr/>
          <p:nvPr/>
        </p:nvSpPr>
        <p:spPr>
          <a:xfrm>
            <a:off x="5562720" y="914400"/>
            <a:ext cx="4267080" cy="5410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de_single(point, norma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0</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enerate random sample distance s_0’</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lculate point S based on s_0’</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lor = trace(randomly reflected shadow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ay)</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lculate distance s_i’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calc_single_scattering(colo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_0’, s_I’)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111" name="singlescat" descr=""/>
          <p:cNvPicPr/>
          <p:nvPr/>
        </p:nvPicPr>
        <p:blipFill>
          <a:blip r:embed="rId1"/>
          <a:stretch/>
        </p:blipFill>
        <p:spPr>
          <a:xfrm>
            <a:off x="5181480" y="3552840"/>
            <a:ext cx="3962520" cy="313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Idea of Paper</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lighting equations are based around the bidirectional reflection distribution function (BRD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directional surface scattering distribution function (BSSRDF)is a more general model wherein light does not need to leave the material at the same place light enter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tions of this method</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real time (order minutes), although Jensen already has a paper about speeding up BSSRDF evaluation. In it they render a semi-translucent teapot using the algorithm from this paper in 18 minutes, and with their new algorithm in 7 seco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s that there is only one layer of the object. This is a fine assumption for something like a marble bust, but for things we really care about (human skin), this assumption isn’t that gre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tions of this method Cont.</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have been lying to you all this time. BRDF makes 2 simplifying assumptions – location of outgoing ray </a:t>
            </a:r>
            <a:r>
              <a:rPr b="0" i="1" lang="en-US" sz="2400" spc="-1" strike="noStrike">
                <a:solidFill>
                  <a:srgbClr val="000000"/>
                </a:solidFill>
                <a:latin typeface="Times New Roman"/>
              </a:rPr>
              <a:t>and</a:t>
            </a:r>
            <a:r>
              <a:rPr b="0" lang="en-US" sz="2400" spc="-1" strike="noStrike">
                <a:solidFill>
                  <a:srgbClr val="000000"/>
                </a:solidFill>
                <a:latin typeface="Times New Roman"/>
              </a:rPr>
              <a:t> light of a given wavelength will only reflect back at the same wavelength. BSSRDF doesn’t do anything about this second approxim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using a hack for dipoles operating by curved objec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currently efficient for global illumi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DF</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s based on BRDF can range from the very simple, Phong’s illumination model, to the complex, Cook-Torr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can do a good job in some situations, but in non-metallics there is typically a problem caused by light penetrating below the surf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Cook Torrance</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762120" y="2057400"/>
            <a:ext cx="2819160" cy="1800360"/>
          </a:xfrm>
          <a:prstGeom prst="rect">
            <a:avLst/>
          </a:prstGeom>
          <a:ln w="0">
            <a:noFill/>
          </a:ln>
        </p:spPr>
      </p:pic>
      <p:pic>
        <p:nvPicPr>
          <p:cNvPr id="51" name="cooktorrance-sphereplane" descr=""/>
          <p:cNvPicPr/>
          <p:nvPr/>
        </p:nvPicPr>
        <p:blipFill>
          <a:blip r:embed="rId2"/>
          <a:stretch/>
        </p:blipFill>
        <p:spPr>
          <a:xfrm>
            <a:off x="3886200" y="1752480"/>
            <a:ext cx="4572000" cy="4572000"/>
          </a:xfrm>
          <a:prstGeom prst="rect">
            <a:avLst/>
          </a:prstGeom>
          <a:ln w="0">
            <a:noFill/>
          </a:ln>
        </p:spPr>
      </p:pic>
      <p:pic>
        <p:nvPicPr>
          <p:cNvPr id="52" name="ct-marbles-cook" descr=""/>
          <p:cNvPicPr/>
          <p:nvPr/>
        </p:nvPicPr>
        <p:blipFill>
          <a:blip r:embed="rId3"/>
          <a:stretch/>
        </p:blipFill>
        <p:spPr>
          <a:xfrm>
            <a:off x="762120" y="411480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ight penetrates beneath the surface, the assumption of a common surface location for incoming and outgoing ray breaks down. Wh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skin" descr=""/>
          <p:cNvPicPr/>
          <p:nvPr/>
        </p:nvPicPr>
        <p:blipFill>
          <a:blip r:embed="rId1"/>
          <a:stretch/>
        </p:blipFill>
        <p:spPr>
          <a:xfrm>
            <a:off x="1981080" y="1905120"/>
            <a:ext cx="4648320" cy="387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ice that while some rays reflect off the skin after initial contact  (the situation BRDF models), many rays continue to travel beneath the surface. The refractions and reflections that occur underneath the surface cause rays to leave at a different point then where they came in. These interactions can be rather complex. Notice the backscattering. The lack of these elements in BRDF models tend to create an image that is overly sharp and har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do we account for this? Several models have previously solved this problem. Very realistic lighting models do exist, but they are computationally expensive to the point of being prohibitive. For example, Fig. 9b and 9c look the same but rendering time differs by several orders of magnitud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me methods just try to get transparency to look right without worrying about any of the underlying physical aspects. For example, one method has light enter an object at a point, then continues the ray until it hits a back face. Calculate the rough distance between these two points. Add light to the other side of the surface in proportion to this calculated distance. This works well for something like wa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wax_quick" descr=""/>
          <p:cNvPicPr/>
          <p:nvPr/>
        </p:nvPicPr>
        <p:blipFill>
          <a:blip r:embed="rId1"/>
          <a:stretch/>
        </p:blipFill>
        <p:spPr>
          <a:xfrm>
            <a:off x="533520" y="838080"/>
            <a:ext cx="3809880" cy="5079960"/>
          </a:xfrm>
          <a:prstGeom prst="rect">
            <a:avLst/>
          </a:prstGeom>
          <a:ln w="0">
            <a:noFill/>
          </a:ln>
        </p:spPr>
      </p:pic>
      <p:pic>
        <p:nvPicPr>
          <p:cNvPr id="61" name="candle" descr=""/>
          <p:cNvPicPr/>
          <p:nvPr/>
        </p:nvPicPr>
        <p:blipFill>
          <a:blip r:embed="rId2"/>
          <a:stretch/>
        </p:blipFill>
        <p:spPr>
          <a:xfrm>
            <a:off x="4419720" y="762120"/>
            <a:ext cx="4724280" cy="510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21:29:15Z</dcterms:created>
  <dc:creator> </dc:creator>
  <dc:description/>
  <dc:language>en-US</dc:language>
  <cp:lastModifiedBy> </cp:lastModifiedBy>
  <dcterms:modified xsi:type="dcterms:W3CDTF">2003-04-02T20:41:42Z</dcterms:modified>
  <cp:revision>25</cp:revision>
  <dc:subject/>
  <dc:title>Subsurface Rendering</dc:title>
</cp:coreProperties>
</file>